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581-117A-48B3-B169-E802461D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938-4BC2-4408-97F7-A913D1DE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8FD-036E-4230-87F7-9AB4E231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C72-A1F2-4EA7-A986-54FB2DA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B3E-A66A-4A12-8DE1-57328FE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D78-7B6C-48BE-B5F9-6DE2623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487-2BE8-4A52-A81D-06E8EE90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6B7-558A-4F09-86A0-9F638282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DB4-4BF5-40EF-A067-C4AB306F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63A-15FA-43DF-9C37-D4AF028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0D7-C130-4D71-BBDB-4F1CEDA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4A4-F398-4C82-B179-6A5904D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E29-FF56-4273-B260-277552061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-158760" y="792000"/>
            <a:ext cx="935820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781680" y="35053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C:\Documents and Settings\ISLPT168\My Documents\My Pictures\imagesCAAVJLY6.jpg"/>
          <p:cNvPicPr/>
          <p:nvPr/>
        </p:nvPicPr>
        <p:blipFill>
          <a:blip r:embed="rId1"/>
          <a:stretch/>
        </p:blipFill>
        <p:spPr>
          <a:xfrm>
            <a:off x="609480" y="2362320"/>
            <a:ext cx="5410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2590920" y="5486400"/>
            <a:ext cx="350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 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C:\Documents and Settings\ISLPT168\My Documents\My Pictures\zone1.jpg"/>
          <p:cNvPicPr/>
          <p:nvPr/>
        </p:nvPicPr>
        <p:blipFill>
          <a:blip r:embed="rId1"/>
          <a:stretch/>
        </p:blipFill>
        <p:spPr>
          <a:xfrm>
            <a:off x="228600" y="1752480"/>
            <a:ext cx="777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the difference between a lake and a peninsul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C:\Documents and Settings\ISLPT168\My Documents\My Pictures\imagesCA6RABCS.jpg"/>
          <p:cNvPicPr/>
          <p:nvPr/>
        </p:nvPicPr>
        <p:blipFill>
          <a:blip r:embed="rId1"/>
          <a:stretch/>
        </p:blipFill>
        <p:spPr>
          <a:xfrm>
            <a:off x="0" y="251460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Documents and Settings\ISLPT168\My Documents\My Pictures\imagesCA235OW3.jpg"/>
          <p:cNvPicPr/>
          <p:nvPr/>
        </p:nvPicPr>
        <p:blipFill>
          <a:blip r:embed="rId2"/>
          <a:stretch/>
        </p:blipFill>
        <p:spPr>
          <a:xfrm>
            <a:off x="5257800" y="259092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1523880" y="2590920"/>
            <a:ext cx="26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334120" y="5029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penins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ke I completely surrounded by land. A peninsula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m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surrounded by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5" descr="C:\Documents and Settings\ISLPT168\Local Settings\Temporary Internet Files\Content.IE5\OXXBVYHM\MC900432618[1].png"/>
          <p:cNvPicPr/>
          <p:nvPr/>
        </p:nvPicPr>
        <p:blipFill>
          <a:blip r:embed="rId3"/>
          <a:stretch/>
        </p:blipFill>
        <p:spPr>
          <a:xfrm rot="1026600">
            <a:off x="6646680" y="4037040"/>
            <a:ext cx="19764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C:\Documents and Settings\ISLPT168\Local Settings\Temporary Internet Files\Content.IE5\OXXBVYHM\MC900432618[1].png"/>
          <p:cNvPicPr/>
          <p:nvPr/>
        </p:nvPicPr>
        <p:blipFill>
          <a:blip r:embed="rId4"/>
          <a:stretch/>
        </p:blipFill>
        <p:spPr>
          <a:xfrm rot="5586600">
            <a:off x="838440" y="3726720"/>
            <a:ext cx="16747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11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00"/>
                </a:solidFill>
                <a:latin typeface="Times New Roman"/>
              </a:rPr>
              <a:t>What is the differences between a hill and a mountain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38080" y="426708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A mountain is bigger than a hill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Times New Roman"/>
              </a:rPr>
              <a:t>Critical Thinking Slide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Times New Roman"/>
              </a:rPr>
              <a:t>What is the difference between a gulf and a b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38080" y="449568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66"/>
                </a:solidFill>
                <a:latin typeface="Times New Roman"/>
              </a:rPr>
              <a:t>A gulf is larger than a ba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4400" spc="-1" strike="noStrike">
                <a:solidFill>
                  <a:srgbClr val="0d0d0d"/>
                </a:solidFill>
                <a:latin typeface="Calibri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8672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Ravie"/>
              </a:rPr>
              <a:t>pl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Documents and Settings\ISLPT168\Local Settings\Temporary Internet Files\Content.IE5\GJMJTFXH\MP900443143[1].jpg"/>
          <p:cNvPicPr/>
          <p:nvPr/>
        </p:nvPicPr>
        <p:blipFill>
          <a:blip r:embed="rId1"/>
          <a:stretch/>
        </p:blipFill>
        <p:spPr>
          <a:xfrm>
            <a:off x="762120" y="2209680"/>
            <a:ext cx="50720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gency FB"/>
              </a:rPr>
              <a:t>What is a 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4382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781680" y="21337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Ravie"/>
              </a:rPr>
              <a:t>c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C:\Documents and Settings\ISLPT168\Local Settings\Temporary Internet Files\Content.IE5\98VN46M9\MP900444498[1].jpg"/>
          <p:cNvPicPr/>
          <p:nvPr/>
        </p:nvPicPr>
        <p:blipFill>
          <a:blip r:embed="rId1"/>
          <a:stretch/>
        </p:blipFill>
        <p:spPr>
          <a:xfrm>
            <a:off x="1752480" y="2133720"/>
            <a:ext cx="4800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Were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85800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1966"/>
                </a:solidFill>
                <a:latin typeface="Ravie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ISLPT168\Local Settings\Temporary Internet Files\Content.IE5\GJMJTFXH\MP900401709[1].jpg"/>
          <p:cNvPicPr/>
          <p:nvPr/>
        </p:nvPicPr>
        <p:blipFill>
          <a:blip r:embed="rId1"/>
          <a:stretch/>
        </p:blipFill>
        <p:spPr>
          <a:xfrm>
            <a:off x="1905120" y="2076480"/>
            <a:ext cx="4647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Times New Roman"/>
              </a:rPr>
              <a:t>What is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553080" y="3505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Ravie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ISLPT168\Local Settings\Temporary Internet Files\Content.IE5\98VN46M9\MP900425293[1].jpg"/>
          <p:cNvPicPr/>
          <p:nvPr/>
        </p:nvPicPr>
        <p:blipFill>
          <a:blip r:embed="rId2"/>
          <a:stretch/>
        </p:blipFill>
        <p:spPr>
          <a:xfrm>
            <a:off x="457200" y="22096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05720" y="3429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Ravie"/>
              </a:rPr>
              <a:t>Plat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:\Documents and Settings\ISLPT168\Local Settings\Temporary Internet Files\Content.IE5\8XYWN0MT\MP900185199[1].jpg"/>
          <p:cNvPicPr/>
          <p:nvPr/>
        </p:nvPicPr>
        <p:blipFill>
          <a:blip r:embed="rId1"/>
          <a:stretch/>
        </p:blipFill>
        <p:spPr>
          <a:xfrm>
            <a:off x="2209680" y="243828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What is a Flat, low-lying land built up from soil carried downstream by a river and deposited at its mou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289512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el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C:\Documents and Settings\ISLPT168\Local Settings\Temporary Internet Files\Content.IE5\OXXBVYHM\MP900432748[1].jpg"/>
          <p:cNvPicPr/>
          <p:nvPr/>
        </p:nvPicPr>
        <p:blipFill>
          <a:blip r:embed="rId1"/>
          <a:stretch/>
        </p:blipFill>
        <p:spPr>
          <a:xfrm>
            <a:off x="1295280" y="2971800"/>
            <a:ext cx="4953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uge sheet of ice that moves slowly across the land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Documents and Settings\ISLPT168\My Documents\My Pictures\imagesCARE2KF1.jpg"/>
          <p:cNvPicPr/>
          <p:nvPr/>
        </p:nvPicPr>
        <p:blipFill>
          <a:blip r:embed="rId1"/>
          <a:stretch/>
        </p:blipFill>
        <p:spPr>
          <a:xfrm>
            <a:off x="1066680" y="2133720"/>
            <a:ext cx="5032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 calle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6629400" y="34290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C:\Documents and Settings\ISLPT168\My Documents\My Pictures\imagesCAGLEWEY.jpg"/>
          <p:cNvPicPr/>
          <p:nvPr/>
        </p:nvPicPr>
        <p:blipFill>
          <a:blip r:embed="rId1"/>
          <a:stretch/>
        </p:blipFill>
        <p:spPr>
          <a:xfrm>
            <a:off x="457200" y="2057400"/>
            <a:ext cx="518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40:12Z</dcterms:modified>
  <cp:revision>42</cp:revision>
  <dc:subject/>
  <dc:title>PowerPoint Presentation</dc:title>
</cp:coreProperties>
</file>